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16.jpeg" ContentType="image/jpeg"/>
  <Override PartName="/ppt/media/wind.wav" ContentType="audio/x-wav"/>
  <Override PartName="/ppt/media/image12.jpeg" ContentType="image/jpeg"/>
  <Override PartName="/ppt/media/image15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laser.wav" ContentType="audio/x-wav"/>
  <Override PartName="/ppt/media/image4.jpeg" ContentType="image/jpeg"/>
  <Override PartName="/ppt/media/image1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1F4-8B42-4F43-8A26-747DF0B220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B578-4C8D-4D28-B621-429A9702619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E0A-7CF4-40D7-A53F-2A540A7D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3EB-A0CD-4C2E-A6C7-6A5C3563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26B-13F8-4559-8480-6500EFAA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287-2065-47C9-ADC7-6D25B6FA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0982-468C-46D6-A29C-3E05B5C8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B06A-389D-408C-A0EE-395EF8C6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427-4786-44EC-8B95-EF07520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B18-DBB0-4209-BA37-CF65DF6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4981-C594-48C9-8AFC-B6C8AAA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ED5E-6A89-4908-869B-5013481A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B7CE-7E3A-4F42-968A-A2AAEA3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1AF-EF62-42BB-974E-7D04B5D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DE46-9D30-4E1E-9285-AB50294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7DD3-5AE0-461A-9201-DC243D5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79A2-DE1F-4428-9687-B47D598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37A5-7351-4922-8B78-51D09666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3145-6981-4BAB-9316-172DBE82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503-7694-4471-B0E4-6B52153A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99C-7C47-4121-ACE1-D00CF38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EC2-9873-4219-92A5-D12B02FD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200-CEB8-4EB6-BC3F-A89B6E7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78D-1CC7-4D32-B17A-4F84982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C0F-DD86-4C52-941C-34144E3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23A-54FF-43F7-920A-AB97AE5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99E-B905-444E-B1DF-2820C4C94E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8D0-DC4F-4C2A-8288-031F90FD48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5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6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7" descr="http://t3.gstatic.com/images?q=tbn:ANd9GcSELAMPGTLf-YyiFNWskzcN3QHp8wgvE02cal00Dza5ecMVCeFv"/>
          <p:cNvPicPr/>
          <p:nvPr/>
        </p:nvPicPr>
        <p:blipFill>
          <a:blip r:embed="rId1"/>
          <a:stretch/>
        </p:blipFill>
        <p:spPr>
          <a:xfrm>
            <a:off x="685800" y="114300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15" descr="http://t1.gstatic.com/images?q=tbn:ANd9GcTyxYa-f3CEnibGYexTF4Sof0M4tVNsF6QM2oA-M-ipi-v6IVg3Wg"/>
          <p:cNvPicPr/>
          <p:nvPr/>
        </p:nvPicPr>
        <p:blipFill>
          <a:blip r:embed="rId2"/>
          <a:stretch/>
        </p:blipFill>
        <p:spPr>
          <a:xfrm>
            <a:off x="5867280" y="114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3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4" descr="http://t1.gstatic.com/images?q=tbn:ANd9GcRAlRH6_JF5cTml1-166vc2ZAjV8Hsb2hFqKPBNGHMULcckOH7xb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http://t3.gstatic.com/images?q=tbn:ANd9GcQrAerm14nb-BZU2l2kSMlqHK7SlIktJV1Zck1y2FOacLooI4kGkjuAW6NcBQ"/>
          <p:cNvPicPr/>
          <p:nvPr/>
        </p:nvPicPr>
        <p:blipFill>
          <a:blip r:embed="rId2"/>
          <a:stretch/>
        </p:blipFill>
        <p:spPr>
          <a:xfrm>
            <a:off x="2362320" y="1371600"/>
            <a:ext cx="4190760" cy="3200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lackadder ITC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lackadder ITC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0" descr="http://t2.gstatic.com/images?q=tbn:ANd9GcTmHhecxNYF-oN6Z9oOtV9KWl9UIoyzlLo8tQ-fGOMOu-lCJjFtAQ"/>
          <p:cNvPicPr/>
          <p:nvPr/>
        </p:nvPicPr>
        <p:blipFill>
          <a:blip r:embed="rId3"/>
          <a:stretch/>
        </p:blipFill>
        <p:spPr>
          <a:xfrm>
            <a:off x="2362320" y="1447920"/>
            <a:ext cx="4190760" cy="31953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  <p:sndAc>
      <p:stSnd>
        <p:snd r:embed="rId4" name="wind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352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Only 15% of the urban population breathes clean, safe ai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Factories put most of the toxic substances in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Acid rain from Europe and Siberia has shortened the Siberian forests’ size by an estimated 730,000 hectares</a:t>
            </a: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11430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 rot="19654800">
            <a:off x="1415880" y="27399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7"/>
          <p:cNvSpPr/>
          <p:nvPr/>
        </p:nvSpPr>
        <p:spPr>
          <a:xfrm rot="19483800">
            <a:off x="1402560" y="273996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 rot="19345200">
            <a:off x="3105000" y="27795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285 -0.09606 C 0.06649 -0.16759 0.07517 -0.23333 0.08264 -0.30393 C 0.08715 -0.34583 0.08889 -0.38773 0.09462 -0.42939 C 0.09722 -0.47523 0.09809 -0.5206 0.09931 -0.56666 C 0.09965 -0.57685 0.09983 -0.58703 0.10069 -0.59699 C 0.10139 -0.60439 0.09826 -0.61782 0.10382 -0.61921 C 0.13559 -0.62754 0.1684 -0.62175 0.20069 -0.62314 C 0.20781 -0.628 0.21111 -0.63449 0.21736 -0.64143 C 0.2184 -0.6456 0.2217 -0.64907 0.22205 -0.65347 C 0.22847 -0.75115 0.21944 -0.6905 0.225 -0.72615 C 0.22552 -0.73842 0.22622 -0.75046 0.22656 -0.76273 C 0.22917 -0.84745 0.23941 -0.83125 0.17656 -0.83125 E">
                                      <p:cBhvr>
                                        <p:cTn id="54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See full size 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Lowest recorded temperature is -93°C (THAT’S REALLY COLD!!!!)</a:t>
            </a:r>
            <a:r>
              <a:rPr b="0" lang="en-US" sz="2400" spc="-1" strike="noStrike">
                <a:solidFill>
                  <a:srgbClr val="cc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In the winter, some of the land is in total darkness for over six months of th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Capital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Largest City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Area: 17, 075, 400 sq km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Official Languages: Russian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Government: Semi-presidential Federal Republic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esident – Vladimir Putin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ime Minister - Mikhail Fradkov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opulation: 142, 400, 000 (2006 est</a:t>
            </a:r>
            <a:r>
              <a:rPr b="0" lang="en-US" sz="2400" spc="-1" strike="noStrike">
                <a:solidFill>
                  <a:srgbClr val="ccff66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2" name="push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77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77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80880" y="304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None we did this for fre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1981080" y="20574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20T15:54:01Z</dcterms:modified>
  <cp:revision>26</cp:revision>
  <dc:subject/>
  <dc:title>Present Day Russia</dc:title>
</cp:coreProperties>
</file>